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C65-CAB3-4EBF-A137-27D29577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241-BCCC-4707-955C-EBBAE243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EE0-E5E8-4F47-95CA-9F0B3297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1AC-541D-450F-9313-218D16D1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5A5B-9603-46A2-9A63-C08807D4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D8C3-B7A3-40E2-BC8C-16B2A1D1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5344-6F9D-425A-8553-CA278DBC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5C33-463F-4159-A1E7-D9373930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C583-126D-4423-96F0-69E9D404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3124-5F4E-43F3-B70B-D7E89384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BF39-C57C-4466-B795-E5FE3753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4DA-BD33-4C67-9C8E-48FFFE5C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E7FD-D025-439F-8DD6-A92985D6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5B15-4631-4F97-BBEA-3F38843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A32B-F415-4087-95EC-EB852363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D0E7-56CA-4A60-BC15-C094907C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5836-E235-4AA7-B4AF-B8D1F03E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3D6-BAD6-4E46-8319-83A25E06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5E2-F1BB-4BC5-8350-41D5E5B3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653-1577-41A7-839E-D475FEEE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EF2-DE09-44BD-98B9-2DFC2847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354-5CA9-4583-870E-F1772A17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BD4-C5EA-4B8D-B433-20BFCD9C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2F2-0E50-4228-814D-C1EB68D5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5F7-B47D-413B-84D6-CFC781805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440" y="60840"/>
              <a:ext cx="3619800" cy="6131520"/>
              <a:chOff x="5410440" y="60840"/>
              <a:chExt cx="3619800" cy="61315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960"/>
                <a:ext cx="2115000" cy="23554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768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984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356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0680" y="264744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000" y="124452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2920"/>
                <a:ext cx="523440" cy="32655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000" y="303480"/>
              <a:ext cx="895680" cy="820800"/>
              <a:chOff x="5652000" y="303480"/>
              <a:chExt cx="895680" cy="8208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880" y="792720"/>
                <a:ext cx="18072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120" y="474480"/>
                <a:ext cx="30852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800" y="404640"/>
                <a:ext cx="32148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33760"/>
              <a:chOff x="96876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4560"/>
                <a:ext cx="250920" cy="301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9120"/>
                <a:ext cx="429480" cy="250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85600"/>
                <a:ext cx="448920" cy="128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7351-DFD3-4630-9D11-0BB7C3BF102D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6192720" cy="27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Solving Exponential Equa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5892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lgebra 2 GH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105520" y="2743200"/>
            <a:ext cx="2743200" cy="39888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4.  Isolate the variabl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6" name="Object 9"/>
          <p:cNvGraphicFramePr/>
          <p:nvPr/>
        </p:nvGraphicFramePr>
        <p:xfrm>
          <a:off x="1752480" y="3259080"/>
          <a:ext cx="293868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59080"/>
                    <a:ext cx="29386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1"/>
          <p:cNvGraphicFramePr/>
          <p:nvPr/>
        </p:nvGraphicFramePr>
        <p:xfrm>
          <a:off x="5486400" y="5703840"/>
          <a:ext cx="160020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5703840"/>
                    <a:ext cx="16002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5"/>
          <p:cNvGraphicFramePr/>
          <p:nvPr/>
        </p:nvGraphicFramePr>
        <p:xfrm>
          <a:off x="914400" y="2575080"/>
          <a:ext cx="3002040" cy="52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575080"/>
                    <a:ext cx="30020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7.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419720" y="2590920"/>
            <a:ext cx="4038480" cy="7038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1. The exponential expressions are already isolated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4419720" y="4114800"/>
            <a:ext cx="3962160" cy="100872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3.  Use the log rule that lets you rewrite the exponent as a multiplier on each side.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4419720" y="3352680"/>
            <a:ext cx="4038480" cy="7038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2.  Take the log (log or ln) of both sides of the equ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47" name="Object 13"/>
          <p:cNvGraphicFramePr/>
          <p:nvPr/>
        </p:nvGraphicFramePr>
        <p:xfrm>
          <a:off x="468360" y="2719440"/>
          <a:ext cx="372096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19440"/>
                    <a:ext cx="37209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7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562720" y="2666880"/>
            <a:ext cx="3200400" cy="13136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4. To isolate the variable, we need to combine the ‘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’ terms, then factor out the ‘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’ and divid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52" name="Object 7"/>
          <p:cNvGraphicFramePr/>
          <p:nvPr/>
        </p:nvGraphicFramePr>
        <p:xfrm>
          <a:off x="468360" y="2924280"/>
          <a:ext cx="476568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924280"/>
                    <a:ext cx="476568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"/>
          <p:cNvGraphicFramePr/>
          <p:nvPr/>
        </p:nvGraphicFramePr>
        <p:xfrm>
          <a:off x="2428920" y="5562720"/>
          <a:ext cx="1762200" cy="42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562720"/>
                    <a:ext cx="1762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Like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 an Exponential Equation, the variable is in the exponent.  There may be one exponential term or more than one, like…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f you can isolate terms so that the equation can be written as two expressions with the same base, as in the equations above, then the solution is simp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1905120" y="3443400"/>
            <a:ext cx="5029200" cy="520560"/>
            <a:chOff x="1905120" y="3443400"/>
            <a:chExt cx="5029200" cy="520560"/>
          </a:xfrm>
        </p:grpSpPr>
        <p:graphicFrame>
          <p:nvGraphicFramePr>
            <p:cNvPr id="172" name="Object 5"/>
            <p:cNvGraphicFramePr/>
            <p:nvPr/>
          </p:nvGraphicFramePr>
          <p:xfrm>
            <a:off x="1905120" y="3443400"/>
            <a:ext cx="2057400" cy="4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443400"/>
                      <a:ext cx="205740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6"/>
            <p:cNvSpPr/>
            <p:nvPr/>
          </p:nvSpPr>
          <p:spPr>
            <a:xfrm>
              <a:off x="4267440" y="3443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99"/>
                  </a:solidFill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aphicFrame>
          <p:nvGraphicFramePr>
            <p:cNvPr id="175" name="Object 7"/>
            <p:cNvGraphicFramePr/>
            <p:nvPr/>
          </p:nvGraphicFramePr>
          <p:xfrm>
            <a:off x="5172480" y="3443400"/>
            <a:ext cx="1761840" cy="49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72480" y="3443400"/>
                      <a:ext cx="176184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4859280" y="2319480"/>
                <a:ext cx="16718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79" name="Object 14"/>
          <p:cNvGraphicFramePr/>
          <p:nvPr/>
        </p:nvGraphicFramePr>
        <p:xfrm>
          <a:off x="1271520" y="1484280"/>
          <a:ext cx="523404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1484280"/>
                    <a:ext cx="52340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5076720" y="3156120"/>
                <a:ext cx="12654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Group 22"/>
          <p:cNvGrpSpPr/>
          <p:nvPr/>
        </p:nvGrpSpPr>
        <p:grpSpPr>
          <a:xfrm>
            <a:off x="2700360" y="4292640"/>
            <a:ext cx="4824360" cy="1584360"/>
            <a:chOff x="2700360" y="4292640"/>
            <a:chExt cx="4824360" cy="1584360"/>
          </a:xfrm>
        </p:grpSpPr>
        <p:sp>
          <p:nvSpPr>
            <p:cNvPr id="183" name="Oval 21"/>
            <p:cNvSpPr/>
            <p:nvPr/>
          </p:nvSpPr>
          <p:spPr>
            <a:xfrm>
              <a:off x="2700360" y="4292640"/>
              <a:ext cx="4824360" cy="158436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19"/>
                <p:cNvSpPr txBox="1"/>
                <p:nvPr/>
              </p:nvSpPr>
              <p:spPr>
                <a:xfrm>
                  <a:off x="3348000" y="4433760"/>
                  <a:ext cx="31608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    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y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20"/>
                <p:cNvSpPr txBox="1"/>
                <p:nvPr/>
              </p:nvSpPr>
              <p:spPr>
                <a:xfrm>
                  <a:off x="5003640" y="5227560"/>
                  <a:ext cx="131148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4859280" y="2781360"/>
                <a:ext cx="1671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88" name="Object 3"/>
          <p:cNvGraphicFramePr/>
          <p:nvPr/>
        </p:nvGraphicFramePr>
        <p:xfrm>
          <a:off x="1258920" y="1498680"/>
          <a:ext cx="52592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98680"/>
                    <a:ext cx="5259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4964040" y="4292640"/>
                <a:ext cx="149076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Oval 6"/>
          <p:cNvSpPr/>
          <p:nvPr/>
        </p:nvSpPr>
        <p:spPr>
          <a:xfrm>
            <a:off x="755640" y="2349360"/>
            <a:ext cx="3311640" cy="12193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Convert to the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same base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163440" y="4005360"/>
            <a:ext cx="4498920" cy="12906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Equate the exponents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2411280" y="3530520"/>
            <a:ext cx="1800" cy="47484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5148360" y="2625840"/>
                <a:ext cx="26654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96" name="Object 3"/>
          <p:cNvGraphicFramePr/>
          <p:nvPr/>
        </p:nvGraphicFramePr>
        <p:xfrm>
          <a:off x="1276200" y="1531800"/>
          <a:ext cx="622944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531800"/>
                    <a:ext cx="62294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5148360" y="4465800"/>
                <a:ext cx="234144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Oval 6"/>
          <p:cNvSpPr/>
          <p:nvPr/>
        </p:nvSpPr>
        <p:spPr>
          <a:xfrm>
            <a:off x="755640" y="2498760"/>
            <a:ext cx="3311640" cy="12193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Convert to the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same base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2411280" y="3751200"/>
            <a:ext cx="1800" cy="47484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163440" y="4226040"/>
            <a:ext cx="4498920" cy="12906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Equate the exponents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4.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1523880" y="2544840"/>
          <a:ext cx="215604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44840"/>
                    <a:ext cx="21560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8"/>
          <p:cNvSpPr/>
          <p:nvPr/>
        </p:nvSpPr>
        <p:spPr>
          <a:xfrm>
            <a:off x="4419720" y="2895480"/>
            <a:ext cx="3962160" cy="100872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1.  Isolate the exponential expression and rewrite the constant in terms of the same bas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1927080" y="4470480"/>
          <a:ext cx="173052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7080" y="4470480"/>
                    <a:ext cx="17305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10"/>
          <p:cNvSpPr/>
          <p:nvPr/>
        </p:nvSpPr>
        <p:spPr>
          <a:xfrm>
            <a:off x="4419720" y="4327560"/>
            <a:ext cx="3962160" cy="100872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2.  Set the exponents equal to each other (drop the bases) and solve the resulting equ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0" name="Object 6"/>
          <p:cNvGraphicFramePr/>
          <p:nvPr/>
        </p:nvGraphicFramePr>
        <p:xfrm>
          <a:off x="1523880" y="2533680"/>
          <a:ext cx="221940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33680"/>
                    <a:ext cx="221940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7"/>
          <p:cNvSpPr/>
          <p:nvPr/>
        </p:nvSpPr>
        <p:spPr>
          <a:xfrm>
            <a:off x="4495680" y="2743200"/>
            <a:ext cx="3962520" cy="13136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1.  Isolate the exponential expressions on either side of the =.  We then rewrite the 2nd expression in terms of the same base as the first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495680" y="4708440"/>
            <a:ext cx="3962520" cy="100872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2.  Set the exponents equal to each other (drop the bases) and solve the resulting equ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4" name="Object 9"/>
          <p:cNvGraphicFramePr/>
          <p:nvPr/>
        </p:nvGraphicFramePr>
        <p:xfrm>
          <a:off x="1405080" y="4702320"/>
          <a:ext cx="2252520" cy="101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5080" y="4702320"/>
                    <a:ext cx="22525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Exponential Equations below contain exponential expressions whose bases cannot be rewritten as the same rational number.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solutions are irrational numbers, we will need to use a log function to evaluate the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18" name="Group 8"/>
          <p:cNvGrpSpPr/>
          <p:nvPr/>
        </p:nvGrpSpPr>
        <p:grpSpPr>
          <a:xfrm>
            <a:off x="1908000" y="3962520"/>
            <a:ext cx="5094360" cy="520560"/>
            <a:chOff x="1908000" y="3962520"/>
            <a:chExt cx="5094360" cy="520560"/>
          </a:xfrm>
        </p:grpSpPr>
        <p:graphicFrame>
          <p:nvGraphicFramePr>
            <p:cNvPr id="219" name="Object 5"/>
            <p:cNvGraphicFramePr/>
            <p:nvPr/>
          </p:nvGraphicFramePr>
          <p:xfrm>
            <a:off x="1908000" y="3962520"/>
            <a:ext cx="2187360" cy="49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8000" y="3962520"/>
                      <a:ext cx="218736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Text Box 6"/>
            <p:cNvSpPr/>
            <p:nvPr/>
          </p:nvSpPr>
          <p:spPr>
            <a:xfrm>
              <a:off x="433512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99"/>
                  </a:solidFill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aphicFrame>
          <p:nvGraphicFramePr>
            <p:cNvPr id="222" name="Object 7"/>
            <p:cNvGraphicFramePr/>
            <p:nvPr/>
          </p:nvGraphicFramePr>
          <p:xfrm>
            <a:off x="5240160" y="3962520"/>
            <a:ext cx="1762200" cy="49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40160" y="3962520"/>
                      <a:ext cx="176220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419720" y="2803680"/>
            <a:ext cx="4038480" cy="39888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1.  Isolate the exponential express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419720" y="4495680"/>
            <a:ext cx="3962160" cy="7038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3.  Use the log rule that lets you rewrite the exponent as a multipli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8" name="Object 9"/>
          <p:cNvGraphicFramePr/>
          <p:nvPr/>
        </p:nvGraphicFramePr>
        <p:xfrm>
          <a:off x="1203480" y="2436840"/>
          <a:ext cx="222084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436840"/>
                    <a:ext cx="22208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 Box 12"/>
          <p:cNvSpPr/>
          <p:nvPr/>
        </p:nvSpPr>
        <p:spPr>
          <a:xfrm>
            <a:off x="4419720" y="3657600"/>
            <a:ext cx="4038480" cy="7038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2.  Take the log (log or ln) of both sides of the equ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1" name="Object 13"/>
          <p:cNvGraphicFramePr/>
          <p:nvPr/>
        </p:nvGraphicFramePr>
        <p:xfrm>
          <a:off x="762120" y="3828960"/>
          <a:ext cx="329868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828960"/>
                    <a:ext cx="32986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5:27:31Z</dcterms:created>
  <dc:creator>Chung Cheng High School(Main)</dc:creator>
  <dc:description/>
  <dc:language>en-US</dc:language>
  <cp:lastModifiedBy>test</cp:lastModifiedBy>
  <dcterms:modified xsi:type="dcterms:W3CDTF">2015-03-27T12:30:02Z</dcterms:modified>
  <cp:revision>193</cp:revision>
  <dc:subject/>
  <dc:title>Additional Mathematics</dc:title>
</cp:coreProperties>
</file>